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BD7C-E035-48A1-B1A2-661E016C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1146-0B66-41E0-92A2-709E2C568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70B0-21A9-4D61-BF91-64FE25FF3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356C-1E17-45EE-9911-B19530F47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996F-E2E7-4710-B064-06B7FBAE7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43F3-AFCC-47E1-811D-B1F4F9EA7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176C-ED33-4BB0-81B0-D8FB3ACD3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60C3-266D-4348-9C92-79FA8E5D9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131A-A1C5-4BD3-B0DF-1A01F037E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F159-73D0-48BE-A83C-1E5DA7608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70DC-3462-4F66-8786-C36F44DD3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A445-A9AF-4CB9-8A69-E3C9424B5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EE5268B-C41C-4C05-BFC0-8FD967BF6205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Démarrage des échange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516 établissements ont démarré les tests avec les caisse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44 établissements ont fini les tests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317 établissements ont fait le PV de phase 3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1 établissements ont fini la phase 4 et donc démarré en ré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D804-E5BE-41C6-837D-01649F910C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640" y="215640"/>
            <a:ext cx="907236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600" spc="-1" strike="noStrike">
                <a:solidFill>
                  <a:srgbClr val="0066ff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3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1224000"/>
            <a:ext cx="9793440" cy="1123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lanning de bascule retour SMTP des retours NOEM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01880" y="1965240"/>
          <a:ext cx="7991280" cy="4488120"/>
        </p:xfrm>
        <a:graphic>
          <a:graphicData uri="http://schemas.openxmlformats.org/drawingml/2006/table">
            <a:tbl>
              <a:tblPr/>
              <a:tblGrid>
                <a:gridCol w="1649160"/>
                <a:gridCol w="3703680"/>
                <a:gridCol w="26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ouloirs (CNAM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uméros des départements concer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Date de basc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1-07-26-42-69-74-38-03-63-43-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8/05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ES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7-91-93-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C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5-78-92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2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-12-31-32-46-65-81-82-24-33-40-47-64-11-30-34-48-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Guadeloupe-Martinique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éunion-Mayotte-Guy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9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A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A-2B-04 05-06-13-83-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6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P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2-29-35-56-44 49-53-72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3/06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002B-0F98-43FD-AC4C-DE2C8A8D4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oint de situation sur la mise en œuvre de la télétransmission sécurisé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lus de 37 millions de factures reçue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55 établissements émet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’ensemble des CTI a reçu des flux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Action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Poursuivre envoi des stocks 2005, 2006, 2007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Envoi des flux 2008.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4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9542-5B5C-4035-8DB7-94A28A851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Flux 1 euro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6680" y="1482840"/>
          <a:ext cx="4460760" cy="495396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SPECIALITE EXEC. /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ATIBILITE ASU-NAT /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CONNUE BDO NON TRANS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DENTIFICATION PRESTATION OBLIG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ABSENT DE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TM NON TROUVEE EN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NATURE DE PRESTATION ERRON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ASSURE NON GERE PAR LA CAI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BENEFICIAIRE INCONNU DANS LA B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6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INCOMP. NAT. PREST. SPE.EXECU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3280" y="1512720"/>
          <a:ext cx="4459320" cy="2646360"/>
        </p:xfrm>
        <a:graphic>
          <a:graphicData uri="http://schemas.openxmlformats.org/drawingml/2006/table">
            <a:tbl>
              <a:tblPr/>
              <a:tblGrid>
                <a:gridCol w="4459320"/>
              </a:tblGrid>
              <a:tr h="265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Les principaux motifs de rejets dans l’ordre décroissan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Echantillon 309 établissement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Comic Sans MS"/>
                          <a:ea typeface="Arial"/>
                        </a:rPr>
                        <a:t>11 millions de factu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A4CD-176F-49AF-ADE7-1622509D05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9:09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